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225-14D1-4C45-91CD-9E2EE5FF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E5D-34C0-45CA-AFFC-218D16C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718-C1BA-4A80-B6C0-72CD80EB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C63-1392-4A86-A129-04F21B1C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90E-67C8-420B-8B55-F65006C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57B-5B45-4CC9-8184-1BE29BF0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49B-8CDF-4246-A95B-1D57869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A2E-8DAA-4CA8-956A-F588E17B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911-521C-4C28-A515-53880C18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0AB-6341-4180-93A2-BE1B175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09E-5DC2-45D1-A8D9-A11855E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8D8-0C85-4265-AA1E-8F74F00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0AC-3EAE-43C1-BB99-FA58C8D0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Hyperlinks to trigger your scenes and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create a PC terminal that can control lights and demo some product simultaneously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nstall, museum, exhibitions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7664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o to the 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267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tup system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341360"/>
            <a:ext cx="8785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"hsm" folder (includes all ".hsm" files) 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"slnetwork.exe" file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HTML, PPS, ... file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ation of the '.hsm' extension to SLNETWORK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your file with html hyperlinks. Hyperlink must call the .HSM files in th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the "slnetwork.exe"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the DMX software and assign some keys 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 on the page with html hyperlinks and click on the created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8770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 to the 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emo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837480" y="5757840"/>
            <a:ext cx="137160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Retour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44756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76400" y="944640"/>
            <a:ext cx="162252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87496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116760" y="359892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67532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47388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798560" y="3608280"/>
            <a:ext cx="1627200" cy="126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957480" y="3598920"/>
            <a:ext cx="16272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4:14:46Z</dcterms:created>
  <dc:creator>Daslight</dc:creator>
  <dc:description/>
  <dc:language>en-US</dc:language>
  <cp:lastModifiedBy> </cp:lastModifiedBy>
  <dcterms:modified xsi:type="dcterms:W3CDTF">2006-02-01T11:35:48Z</dcterms:modified>
  <cp:revision>32</cp:revision>
  <dc:subject/>
  <dc:title>Diapositive 1</dc:title>
</cp:coreProperties>
</file>